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971440"/>
            <a:ext cx="10464840" cy="176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lant Uses Keynot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Your Nam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rcRect l="0" t="5569" r="0" b="5532"/>
          <a:stretch/>
        </p:blipFill>
        <p:spPr>
          <a:xfrm>
            <a:off x="7175520" y="2882880"/>
            <a:ext cx="4102200" cy="54738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ommon Name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cientific name</a:t>
            </a:r>
            <a:br>
              <a:rPr sz="8400"/>
            </a:b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nset zon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ze H’ x W’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erennial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hrub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e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